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F3ED-CBE7-4BC5-82F3-553615F2C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0477-69FF-4CCB-9788-F575086C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31C1-4293-4685-BBE8-AF902786D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23B2-34FB-4FB8-A785-12AD229D7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DFB5-F4DE-4E7A-A63A-FA39BC96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467D-F226-4DA0-9B20-F5DF6A82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967F-6F4C-4089-B34E-41D1954A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80FB-6F75-4417-9AC1-95077EE8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AC28-85EC-4326-BA01-DC8E2AFE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23EB-0547-4908-B2FA-76956BBC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CFF8-AEBE-459F-92CF-4ADA753C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1F4E-0C52-418A-9293-78697AFF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54BC-0636-45AE-B14C-689EE570FC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About the Center for the Commercialization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Of  Electric Technologies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(CCET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2" name="aep_logoHome[1]" descr=""/>
          <p:cNvPicPr/>
          <p:nvPr/>
        </p:nvPicPr>
        <p:blipFill>
          <a:blip r:embed="rId1"/>
          <a:stretch/>
        </p:blipFill>
        <p:spPr>
          <a:xfrm>
            <a:off x="304920" y="5781600"/>
            <a:ext cx="1143000" cy="808200"/>
          </a:xfrm>
          <a:prstGeom prst="rect">
            <a:avLst/>
          </a:prstGeom>
          <a:ln w="0">
            <a:noFill/>
          </a:ln>
        </p:spPr>
      </p:pic>
      <p:pic>
        <p:nvPicPr>
          <p:cNvPr id="43" name="cnp_logo[1]" descr=""/>
          <p:cNvPicPr/>
          <p:nvPr/>
        </p:nvPicPr>
        <p:blipFill>
          <a:blip r:embed="rId2"/>
          <a:stretch/>
        </p:blipFill>
        <p:spPr>
          <a:xfrm>
            <a:off x="1295280" y="6019920"/>
            <a:ext cx="1028880" cy="473040"/>
          </a:xfrm>
          <a:prstGeom prst="rect">
            <a:avLst/>
          </a:prstGeom>
          <a:ln w="0">
            <a:noFill/>
          </a:ln>
        </p:spPr>
      </p:pic>
      <p:pic>
        <p:nvPicPr>
          <p:cNvPr id="44" name="logo_angle[1]" descr=""/>
          <p:cNvPicPr/>
          <p:nvPr/>
        </p:nvPicPr>
        <p:blipFill>
          <a:blip r:embed="rId3"/>
          <a:stretch/>
        </p:blipFill>
        <p:spPr>
          <a:xfrm>
            <a:off x="2666880" y="6095880"/>
            <a:ext cx="1486080" cy="357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599000" y="5715000"/>
            <a:ext cx="704880" cy="800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715000" y="5943600"/>
            <a:ext cx="1371600" cy="557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772400" y="5943600"/>
            <a:ext cx="905040" cy="6094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ed in September 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: to enhance the 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safe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reliabil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secur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efficienc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 Texas electric transmission and distribution system through research, development and commercialization of emerging technolog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CET’s Objective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develop and capture the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benefi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dvancing technolog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ic energy trans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ribution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bringing togeth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extensive existing facilities and technical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capabilit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electric utilities, high tech leaders, and Texas universities and colle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CET ORGANIZ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ard of Directors &amp; Offic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chnical Advisory Group (TA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ises and assists in development of commercialization proposal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representative from each member company, along with technical representatives from affiliate members that want to participate in the proces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CET’s Role in the Project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all 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Project Coordin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&amp; 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Applican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for Texas ET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tity to 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Implement a Commercializ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Plan for Products Arising from the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9:30:38Z</dcterms:created>
  <dc:creator>Milton Halloway</dc:creator>
  <dc:description/>
  <dc:language>en-US</dc:language>
  <cp:lastModifiedBy>Milton Holloway</cp:lastModifiedBy>
  <cp:lastPrinted>2005-12-05T02:47:24Z</cp:lastPrinted>
  <dcterms:modified xsi:type="dcterms:W3CDTF">2006-08-03T15:12:11Z</dcterms:modified>
  <cp:revision>59</cp:revision>
  <dc:subject/>
  <dc:title>Commercialization Priorities Workshop Center for the Commercialization of Electric Technologies Technical Advisory Group Houston, Texas December 5, 2005</dc:title>
</cp:coreProperties>
</file>